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26.png" ContentType="image/png"/>
  <Override PartName="/ppt/media/image24.png" ContentType="image/png"/>
  <Override PartName="/ppt/media/image11.jpeg" ContentType="image/jpeg"/>
  <Override PartName="/ppt/media/image23.png" ContentType="image/png"/>
  <Override PartName="/ppt/media/image28.jpeg" ContentType="image/jpeg"/>
  <Override PartName="/ppt/media/image20.png" ContentType="image/png"/>
  <Override PartName="/ppt/media/image18.png" ContentType="image/png"/>
  <Override PartName="/ppt/media/image7.jpeg" ContentType="image/jpeg"/>
  <Override PartName="/ppt/media/image6.png" ContentType="image/png"/>
  <Override PartName="/ppt/media/image31.png" ContentType="image/png"/>
  <Override PartName="/ppt/media/image8.png" ContentType="image/png"/>
  <Override PartName="/ppt/media/image33.png" ContentType="image/png"/>
  <Override PartName="/ppt/media/image13.png" ContentType="image/png"/>
  <Override PartName="/ppt/media/image5.png" ContentType="image/png"/>
  <Override PartName="/ppt/media/image12.png" ContentType="image/png"/>
  <Override PartName="/ppt/media/image9.jpeg" ContentType="image/jpeg"/>
  <Override PartName="/ppt/media/image34.png" ContentType="image/png"/>
  <Override PartName="/ppt/media/image4.png" ContentType="image/png"/>
  <Override PartName="/ppt/media/image30.png" ContentType="image/png"/>
  <Override PartName="/ppt/media/image3.jpeg" ContentType="image/jpeg"/>
  <Override PartName="/ppt/media/image15.png" ContentType="image/png"/>
  <Override PartName="/ppt/media/image1.jpeg" ContentType="image/jpeg"/>
  <Override PartName="/ppt/media/image22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10.jpeg" ContentType="image/jpeg"/>
  <Override PartName="/ppt/media/image14.png" ContentType="image/png"/>
  <Override PartName="/ppt/media/image16.png" ContentType="image/png"/>
  <Override PartName="/ppt/media/image17.png" ContentType="image/png"/>
  <Override PartName="/ppt/media/image19.png" ContentType="image/png"/>
  <Override PartName="/ppt/media/image29.png" ContentType="image/png"/>
  <Override PartName="/ppt/media/image2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8CED7-0A01-4E4D-9530-D6DE6CD82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0ADD5-A8BC-491F-BD75-55DDF1A17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AC0DC-8F53-41D8-A9CE-B74CFEB47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CA680-5A8B-4C81-9B15-7D2F66F37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38682-0275-4DFB-B58E-5B32DBD01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4E297-25EA-4362-B750-C50872E45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0F9AC-E88F-457F-AB28-413B1F5F9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9BB56-CA55-42DF-939F-7281F9FF2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A2572-D6E3-438E-8EBA-D0DC4826A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61CCE-28AD-49D1-9F14-EA846B248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47CF5-E8EB-417F-856D-0F87B4018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CD8B9-5D65-4D26-977C-0DAD47E23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ook Antiqua"/>
              </a:rPr>
              <a:t>&lt;date/time&gt;</a:t>
            </a:r>
            <a:r>
              <a:rPr b="1" lang="en-US" sz="1400" spc="-1" strike="noStrike">
                <a:solidFill>
                  <a:srgbClr val="000000"/>
                </a:solidFill>
                <a:latin typeface="Book Antiqua"/>
              </a:rPr>
              <a:t>14-2-200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Book Antiqu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ook Antiqua"/>
              </a:rPr>
              <a:t>&lt;footer&gt;</a:t>
            </a:r>
            <a:r>
              <a:rPr b="1" lang="en-US" sz="1400" spc="-1" strike="noStrike">
                <a:solidFill>
                  <a:srgbClr val="000000"/>
                </a:solidFill>
                <a:latin typeface="Book Antiqua"/>
              </a:rPr>
              <a:t>Fabrizio Ferro – Tesi di Dottora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EA767-3085-4C7D-8B63-A0FD7EDEF9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tlas" descr=""/>
          <p:cNvPicPr/>
          <p:nvPr/>
        </p:nvPicPr>
        <p:blipFill>
          <a:blip r:embed="rId3"/>
          <a:stretch/>
        </p:blipFill>
        <p:spPr>
          <a:xfrm>
            <a:off x="0" y="0"/>
            <a:ext cx="998640" cy="1752480"/>
          </a:xfrm>
          <a:prstGeom prst="rect">
            <a:avLst/>
          </a:prstGeom>
          <a:ln w="0">
            <a:noFill/>
          </a:ln>
        </p:spPr>
      </p:pic>
      <p:pic>
        <p:nvPicPr>
          <p:cNvPr id="6" name="dbar073" descr=""/>
          <p:cNvPicPr/>
          <p:nvPr/>
        </p:nvPicPr>
        <p:blipFill>
          <a:blip r:embed="rId4"/>
          <a:stretch/>
        </p:blipFill>
        <p:spPr>
          <a:xfrm>
            <a:off x="1447920" y="6324480"/>
            <a:ext cx="6715080" cy="74880"/>
          </a:xfrm>
          <a:prstGeom prst="rect">
            <a:avLst/>
          </a:prstGeom>
          <a:ln w="0">
            <a:noFill/>
          </a:ln>
        </p:spPr>
      </p:pic>
      <p:pic>
        <p:nvPicPr>
          <p:cNvPr id="7" name="logodip" descr=""/>
          <p:cNvPicPr/>
          <p:nvPr/>
        </p:nvPicPr>
        <p:blipFill>
          <a:blip r:embed="rId5"/>
          <a:stretch/>
        </p:blipFill>
        <p:spPr>
          <a:xfrm>
            <a:off x="7924680" y="152280"/>
            <a:ext cx="1063800" cy="132552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720" y="1600200"/>
            <a:ext cx="85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Times New Roman"/>
              </a:rPr>
              <a:t>ATL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560" y="1066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versi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à degli Studi di Geno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228600" y="2057400"/>
            <a:ext cx="8686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ottorato di Ricerca in Fis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IV Cic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Book Antiqua"/>
              </a:rPr>
              <a:t>Fabrizio Fer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Reconstruction of primary and decay vertices in the ATL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experiment at LHC and study of the A </a:t>
            </a:r>
            <a:r>
              <a:rPr b="1" lang="en-US" sz="2400" spc="-1" strike="noStrike">
                <a:solidFill>
                  <a:srgbClr val="ff33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Symbol"/>
                <a:ea typeface="Symbol"/>
              </a:rPr>
              <a:t>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Symbol"/>
                <a:ea typeface="Symbol"/>
              </a:rPr>
              <a:t>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 chan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logouniv" descr=""/>
          <p:cNvPicPr/>
          <p:nvPr/>
        </p:nvPicPr>
        <p:blipFill>
          <a:blip r:embed="rId2"/>
          <a:stretch/>
        </p:blipFill>
        <p:spPr>
          <a:xfrm>
            <a:off x="3886200" y="152280"/>
            <a:ext cx="1011240" cy="12956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912600" y="5486400"/>
            <a:ext cx="316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utore: Prof.ssa Bianca Osculat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720320" y="5486400"/>
            <a:ext cx="404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utore esterno: Dott.ssa Donatella Cavall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29984-CAF0-4F16-B812-36E65446B5C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Il </a:t>
            </a:r>
            <a:r>
              <a:rPr b="0" i="1" lang="en-US" sz="4400" spc="-1" strike="noStrike">
                <a:solidFill>
                  <a:srgbClr val="ff3300"/>
                </a:solidFill>
                <a:latin typeface="Times New Roman"/>
              </a:rPr>
              <a:t>package</a:t>
            </a: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 Vert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algoritmo2" descr=""/>
          <p:cNvPicPr/>
          <p:nvPr/>
        </p:nvPicPr>
        <p:blipFill>
          <a:blip r:embed="rId2"/>
          <a:stretch/>
        </p:blipFill>
        <p:spPr>
          <a:xfrm>
            <a:off x="2286000" y="1066680"/>
            <a:ext cx="4667400" cy="510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C9A2D-FC68-41C1-A8D5-4316CD06A93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Il </a:t>
            </a:r>
            <a:r>
              <a:rPr b="0" i="1" lang="en-US" sz="4400" spc="-1" strike="noStrike">
                <a:solidFill>
                  <a:srgbClr val="ff3300"/>
                </a:solidFill>
                <a:latin typeface="Times New Roman"/>
              </a:rPr>
              <a:t>package</a:t>
            </a: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 Vert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l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ono contenuti algoritmi che esemplificano l’uso dell’interfaccia p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icostruire il vertice primar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icostruire vertici secondari con tracce individuate tramite u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ee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icostruire vertici secondari con tracce fornite dall’ute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3C51C-FF9D-45AB-914E-2F1AE8C2CD6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Tests del Vert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isoluzione sul vertice primario in eventi Higgs SM (H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b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100 GeV)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y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24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z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48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isoluzione sui vertici secondari prodotti da 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3.2 mm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y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4.1 mm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z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5.6 mm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1CB7C-1171-40FB-BF31-9A81B9AB610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Tests del Vert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8380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isoluzione in eventi A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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 direzione parallela e trasversa rispetto al jet adronic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152280" y="3124080"/>
            <a:ext cx="8763120" cy="31402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461600" y="2743200"/>
            <a:ext cx="2366280" cy="3988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oluzione trasver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712480" y="2743200"/>
            <a:ext cx="2335680" cy="3988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oluzione paralle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46C40-85F4-4EEA-9255-C36FF9A70E5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Tests del Vert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14400" y="1371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a stima approssimativa del mean path per un campione di B e per un campione di leptoni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è stata eseguita come esercizio dimostrativ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ssuna accettanza è stata stimat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vitam_bb" descr=""/>
          <p:cNvPicPr/>
          <p:nvPr/>
        </p:nvPicPr>
        <p:blipFill>
          <a:blip r:embed="rId2"/>
          <a:stretch/>
        </p:blipFill>
        <p:spPr>
          <a:xfrm>
            <a:off x="228600" y="3276720"/>
            <a:ext cx="4038480" cy="2925720"/>
          </a:xfrm>
          <a:prstGeom prst="rect">
            <a:avLst/>
          </a:prstGeom>
          <a:ln w="0">
            <a:noFill/>
          </a:ln>
        </p:spPr>
      </p:pic>
      <p:pic>
        <p:nvPicPr>
          <p:cNvPr id="86" name="vitam_tau" descr=""/>
          <p:cNvPicPr/>
          <p:nvPr/>
        </p:nvPicPr>
        <p:blipFill>
          <a:blip r:embed="rId3"/>
          <a:stretch/>
        </p:blipFill>
        <p:spPr>
          <a:xfrm>
            <a:off x="4572000" y="3200400"/>
            <a:ext cx="4343400" cy="296532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1371600" y="3733920"/>
            <a:ext cx="2365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B</a:t>
            </a:r>
            <a:endParaRPr b="0" lang="en-US" sz="2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5715000" y="3657600"/>
            <a:ext cx="457200" cy="43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Symbol"/>
              </a:rPr>
              <a:t>t</a:t>
            </a:r>
            <a:endParaRPr b="0" lang="en-US" sz="2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Symbol"/>
              <a:ea typeface="Symbol"/>
            </a:endParaRPr>
          </a:p>
        </p:txBody>
      </p:sp>
      <p:sp>
        <p:nvSpPr>
          <p:cNvPr id="89" name=""/>
          <p:cNvSpPr/>
          <p:nvPr/>
        </p:nvSpPr>
        <p:spPr>
          <a:xfrm>
            <a:off x="609480" y="2362320"/>
            <a:ext cx="2148480" cy="8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~ 4.3 m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=50 GeV/c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639760" y="2286000"/>
            <a:ext cx="2172600" cy="8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~ 20 m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=400 GeV/c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9A1D5-EB1C-4C9C-BFDE-88F5E3CBB06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MSS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l Modello Supersimmetrico Minimal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è la minima estensione supersimmetrica del Modello Standa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l MSSM prevede l’introduzione di un partner supersimmetrico per ogni particella standa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3581280" y="2286000"/>
            <a:ext cx="5272200" cy="41418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457200" y="3124080"/>
            <a:ext cx="3276720" cy="237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l settore dell’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Higg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ono presenti due doppietti che corrispondono a 5 stati fisici: h, H, A, H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 H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H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è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P-even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entre A è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P-od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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08633-841C-4C2C-9CF9-C78F3E6AADD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Higgs nel MSS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7720" y="685800"/>
            <a:ext cx="7239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 bosoni di Higgs: h, H,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 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1828800" y="3733920"/>
            <a:ext cx="2595600" cy="27432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1828800" y="1143000"/>
            <a:ext cx="2590920" cy="25858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4"/>
          <a:stretch/>
        </p:blipFill>
        <p:spPr>
          <a:xfrm>
            <a:off x="4495680" y="1066680"/>
            <a:ext cx="2578320" cy="266724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5"/>
          <a:stretch/>
        </p:blipFill>
        <p:spPr>
          <a:xfrm>
            <a:off x="4495680" y="3733920"/>
            <a:ext cx="2600280" cy="27432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 txBox="1"/>
          <p:nvPr/>
        </p:nvSpPr>
        <p:spPr>
          <a:xfrm>
            <a:off x="7772400" y="3429000"/>
            <a:ext cx="960480" cy="639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LEP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2520" y="2133720"/>
            <a:ext cx="1755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&gt; 91.0 Ge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960" y="4952880"/>
            <a:ext cx="17791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&gt; 91.9 Ge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086600" y="4876920"/>
            <a:ext cx="1976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&gt; 78.6 Ge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2819520"/>
            <a:ext cx="2198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h(SM)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&gt; 114.4 Ge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33928-56F6-43E7-A1FC-EDB17127FBC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Ricerca del bosone A ad LH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Aass" descr=""/>
          <p:cNvPicPr/>
          <p:nvPr/>
        </p:nvPicPr>
        <p:blipFill>
          <a:blip r:embed="rId2"/>
          <a:stretch/>
        </p:blipFill>
        <p:spPr>
          <a:xfrm>
            <a:off x="1143000" y="2286000"/>
            <a:ext cx="3521160" cy="2263680"/>
          </a:xfrm>
          <a:prstGeom prst="rect">
            <a:avLst/>
          </a:prstGeom>
          <a:ln w="0">
            <a:noFill/>
          </a:ln>
        </p:spPr>
      </p:pic>
      <p:pic>
        <p:nvPicPr>
          <p:cNvPr id="108" name="Adirect" descr=""/>
          <p:cNvPicPr/>
          <p:nvPr/>
        </p:nvPicPr>
        <p:blipFill>
          <a:blip r:embed="rId3"/>
          <a:stretch/>
        </p:blipFill>
        <p:spPr>
          <a:xfrm>
            <a:off x="4876920" y="2666880"/>
            <a:ext cx="3508200" cy="165744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1276200" y="1336680"/>
            <a:ext cx="34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otto trami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u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203480" y="4613400"/>
            <a:ext cx="3368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zione associat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domina ad alti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an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029200" y="4572000"/>
            <a:ext cx="3368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zione dirett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domina a bassi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an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80879-8BDD-4EE4-9656-584FFF4F4ED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Bosone A: decadiment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8080" y="129492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ecadimenti ZZ, WW, h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so tan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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t domina oltre la soglia cinematica, Zh 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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 basse mas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to tan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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b domina (tt soppresso) 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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tribuisce per ~1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cross-section" descr=""/>
          <p:cNvPicPr/>
          <p:nvPr/>
        </p:nvPicPr>
        <p:blipFill>
          <a:blip r:embed="rId2"/>
          <a:stretch/>
        </p:blipFill>
        <p:spPr>
          <a:xfrm>
            <a:off x="1676520" y="3352680"/>
            <a:ext cx="5943600" cy="3033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54EDC-9F5A-426F-81B4-53F8CDB39DB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914400" y="4191120"/>
            <a:ext cx="2362320" cy="6094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Il canale A </a:t>
            </a:r>
            <a:r>
              <a:rPr b="0" lang="en-US" sz="4000" spc="-1" strike="noStrike">
                <a:solidFill>
                  <a:srgbClr val="ff3300"/>
                </a:solidFill>
                <a:latin typeface="Symbol"/>
                <a:ea typeface="Symbol"/>
              </a:rPr>
              <a:t>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3300"/>
                </a:solidFill>
                <a:latin typeface="Symbol"/>
                <a:ea typeface="Symbol"/>
              </a:rPr>
              <a:t>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9072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 topologie possibi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ptone-lept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BR ~ 6.3 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ptone-adro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 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BR ~ 46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roni-adro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BR ~ 41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Atautau_hadronhadron" descr=""/>
          <p:cNvPicPr/>
          <p:nvPr/>
        </p:nvPicPr>
        <p:blipFill>
          <a:blip r:embed="rId2"/>
          <a:stretch/>
        </p:blipFill>
        <p:spPr>
          <a:xfrm>
            <a:off x="3200400" y="4495680"/>
            <a:ext cx="2286000" cy="1714680"/>
          </a:xfrm>
          <a:prstGeom prst="rect">
            <a:avLst/>
          </a:prstGeom>
          <a:ln w="0">
            <a:noFill/>
          </a:ln>
        </p:spPr>
      </p:pic>
      <p:pic>
        <p:nvPicPr>
          <p:cNvPr id="119" name="Atautau_leptohadron" descr=""/>
          <p:cNvPicPr/>
          <p:nvPr/>
        </p:nvPicPr>
        <p:blipFill>
          <a:blip r:embed="rId3"/>
          <a:stretch/>
        </p:blipFill>
        <p:spPr>
          <a:xfrm>
            <a:off x="4800600" y="2666880"/>
            <a:ext cx="2362320" cy="1771920"/>
          </a:xfrm>
          <a:prstGeom prst="rect">
            <a:avLst/>
          </a:prstGeom>
          <a:ln w="0">
            <a:noFill/>
          </a:ln>
        </p:spPr>
      </p:pic>
      <p:pic>
        <p:nvPicPr>
          <p:cNvPr id="120" name="Atautau_leptons" descr=""/>
          <p:cNvPicPr/>
          <p:nvPr/>
        </p:nvPicPr>
        <p:blipFill>
          <a:blip r:embed="rId4"/>
          <a:stretch/>
        </p:blipFill>
        <p:spPr>
          <a:xfrm>
            <a:off x="3886200" y="914400"/>
            <a:ext cx="2286000" cy="171468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5562720" y="4495680"/>
            <a:ext cx="3429000" cy="175284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unto di lavor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800 Ge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n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o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duzione associ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28600" y="5181480"/>
            <a:ext cx="198288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anale studia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685800" y="4647960"/>
            <a:ext cx="6858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A1360-6A28-455F-A70F-09D48362536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3300"/>
                </a:solidFill>
                <a:latin typeface="Times New Roman"/>
              </a:rPr>
              <a:t>Profil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HC e l’esperimento ATL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ftware offline: scrittura di u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di vert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st dello strumento introdotto e suo utilizzo nella identificazione di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alisi del canale A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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A bosone di Higgs supersimmetrico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P-od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lusion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8B1A5-8DB1-4907-BE51-8D9B62CE03C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Produzio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62120" y="838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1. 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Generazion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CER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5000 eventi di segna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50000 eventi QCD (tre diversi tagli sul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minimo: 50, 100, 200 GeV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00000 eventi t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00000 eventi W+j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00000 eventi Z+j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2. </a:t>
            </a: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Filtro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particle level: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|&lt;2.7 e almeno un partone con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17 Ge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3. </a:t>
            </a: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Produzion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 tracciamento degli eventi filtrati tramite geant3 nel rivelatore): (CNAF, Genov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924680" y="838080"/>
            <a:ext cx="228600" cy="2971800"/>
          </a:xfrm>
          <a:custGeom>
            <a:avLst/>
            <a:gdLst>
              <a:gd name="textAreaLeft" fmla="*/ 0 w 228600"/>
              <a:gd name="textAreaRight" fmla="*/ 82440 w 228600"/>
              <a:gd name="textAreaTop" fmla="*/ 77400 h 2971800"/>
              <a:gd name="textAreaBottom" fmla="*/ 2894400 h 2971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8077320" y="1676520"/>
            <a:ext cx="1066680" cy="12214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800 G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25000 ore CP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III 1.4GH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x-sec2" descr=""/>
          <p:cNvPicPr/>
          <p:nvPr/>
        </p:nvPicPr>
        <p:blipFill>
          <a:blip r:embed="rId2"/>
          <a:stretch/>
        </p:blipFill>
        <p:spPr>
          <a:xfrm>
            <a:off x="4267080" y="3962520"/>
            <a:ext cx="4876920" cy="253188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276720" y="1905120"/>
            <a:ext cx="228600" cy="838080"/>
          </a:xfrm>
          <a:custGeom>
            <a:avLst/>
            <a:gdLst>
              <a:gd name="textAreaLeft" fmla="*/ 0 w 228600"/>
              <a:gd name="textAreaRight" fmla="*/ 82440 w 22860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47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721320" y="2106720"/>
            <a:ext cx="192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fondi irriducibil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4114800"/>
            <a:ext cx="4191120" cy="2288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ti non sufficienti per stimare il rapporto segnale/rumore. Ver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à stimata l’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efficienz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 un limite inferiore sulla </a:t>
            </a:r>
            <a:r>
              <a:rPr b="1" i="1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jet-rejec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i testerà l’algoritmo di </a:t>
            </a:r>
            <a:r>
              <a:rPr b="1" i="1" lang="en-US" sz="2400" spc="-1" strike="noStrike">
                <a:solidFill>
                  <a:srgbClr val="ff3300"/>
                </a:solidFill>
                <a:latin typeface="Symbol"/>
                <a:ea typeface="Symbol"/>
              </a:rPr>
              <a:t></a:t>
            </a:r>
            <a:r>
              <a:rPr b="1" i="1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-tagging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5656C-552C-4986-A285-8E964662099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Symbol"/>
                <a:ea typeface="Symbol"/>
              </a:rPr>
              <a:t></a:t>
            </a: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-tagging 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(adronic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62120" y="91440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ue strategie per il riconoscimeto di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1-prong (BR=48.7%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3-prong (BR=15.2%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costruzione dei jets nell’ev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343400" y="2209680"/>
            <a:ext cx="0" cy="4038840"/>
          </a:xfrm>
          <a:prstGeom prst="line">
            <a:avLst/>
          </a:prstGeom>
          <a:ln w="1015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120" y="2666880"/>
            <a:ext cx="3200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69960" y="2403360"/>
            <a:ext cx="3521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04920" y="2209680"/>
            <a:ext cx="403848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lorimetria: 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E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&lt; 0.1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raggio del jet calcolato nel calorimetro elettro-magnetic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solamen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ort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1 traccia isolata vicina all’asse del jet con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40 Ge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isolamento" descr=""/>
          <p:cNvPicPr/>
          <p:nvPr/>
        </p:nvPicPr>
        <p:blipFill>
          <a:blip r:embed="rId2"/>
          <a:stretch/>
        </p:blipFill>
        <p:spPr>
          <a:xfrm>
            <a:off x="1295280" y="3882960"/>
            <a:ext cx="2746440" cy="254484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H="1">
            <a:off x="1828800" y="1828800"/>
            <a:ext cx="533520" cy="380880"/>
          </a:xfrm>
          <a:prstGeom prst="line">
            <a:avLst/>
          </a:prstGeom>
          <a:ln w="4140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172200" y="1828800"/>
            <a:ext cx="304920" cy="380880"/>
          </a:xfrm>
          <a:prstGeom prst="line">
            <a:avLst/>
          </a:prstGeom>
          <a:ln w="4140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419720" y="2133720"/>
            <a:ext cx="441936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costruzione 1-prong falli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lorimetria: 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E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&lt; 0.1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solamen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ebo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1 traccia isolata vicina all’asse del jet con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40 GeV, ma permesse altre 2 tracce entro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&lt;0.03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Vertice secondario ricostruit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4 tagli alternativi sulle informazioni provenienti dal fit di vertice combinati con tagli cinematic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isoluzione ortogonale all’asse: 51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isoluzione parallela all’asse: 2 m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3920" y="5562720"/>
            <a:ext cx="40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7440" y="3962520"/>
            <a:ext cx="44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.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9F1EF-D4EB-4AD9-9570-19966E10F32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Tagl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1066680"/>
            <a:ext cx="3353040" cy="270468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ibuto delle tracce al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l vertice secondario minore del contributo al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l vertice al prima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 tracce al ver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gt; 7 Ge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876920" y="1523880"/>
            <a:ext cx="2895480" cy="875880"/>
          </a:xfrm>
          <a:prstGeom prst="rect">
            <a:avLst/>
          </a:prstGeom>
          <a:solidFill>
            <a:srgbClr val="ff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 tracce al ver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gt; 40 Ge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838080" y="3886200"/>
            <a:ext cx="3657600" cy="225684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gt; 0.4 cm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distanza sul piano r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tra i vertici primario e secondari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 tracce al ver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gt; 50 Ge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25 GeV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708440" y="3470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876920" y="3886200"/>
            <a:ext cx="3657600" cy="2256840"/>
          </a:xfrm>
          <a:prstGeom prst="rect">
            <a:avLst/>
          </a:prstGeom>
          <a:solidFill>
            <a:srgbClr val="ff99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gt; 0.4 cm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distanza sul piano r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tra i vertici primario e secondari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 tracce al ver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gt; 50 Ge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35 GeV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09480" y="2209680"/>
            <a:ext cx="304920" cy="648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1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8458200" y="1905120"/>
            <a:ext cx="304920" cy="6476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2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4648320"/>
            <a:ext cx="304920" cy="6476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3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8610480" y="4572000"/>
            <a:ext cx="304920" cy="6476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4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5464A-6356-4C7F-89E2-61E45CE8AF3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Symbol"/>
                <a:ea typeface="Symbol"/>
              </a:rPr>
              <a:t>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-tagging: risultat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91404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Efficienza relativa al cana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1-prong: 34.4%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-prong: 44.1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Efficienza complessi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1-prong: 26.8%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-prong: 9.8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6.6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Times New Roman"/>
              </a:rPr>
              <a:t>Reiezione dei j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Times New Roman"/>
              </a:rPr>
              <a:t>QCD (p</a:t>
            </a:r>
            <a:r>
              <a:rPr b="0" lang="en-US" sz="2800" spc="-1" strike="noStrike" baseline="-25000">
                <a:solidFill>
                  <a:srgbClr val="008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8000"/>
                </a:solidFill>
                <a:latin typeface="Times New Roman"/>
              </a:rPr>
              <a:t>&gt;50 GeV</a:t>
            </a:r>
            <a:r>
              <a:rPr b="0" lang="en-US" sz="2800" spc="-1" strike="noStrike">
                <a:solidFill>
                  <a:srgbClr val="008000"/>
                </a:solidFill>
                <a:latin typeface="Times New Roman"/>
              </a:rPr>
              <a:t>):</a:t>
            </a:r>
            <a:r>
              <a:rPr b="0" lang="en-US" sz="2800" spc="-1" strike="noStrike">
                <a:solidFill>
                  <a:srgbClr val="008000"/>
                </a:solidFill>
                <a:latin typeface="Times New Roman"/>
              </a:rPr>
              <a:t>  &gt;3.7</a:t>
            </a:r>
            <a:r>
              <a:rPr b="0" lang="en-US" sz="2800" spc="-1" strike="noStrike">
                <a:solidFill>
                  <a:srgbClr val="008000"/>
                </a:solidFill>
                <a:latin typeface="Symbol"/>
                <a:ea typeface="Symbol"/>
              </a:rPr>
              <a:t></a:t>
            </a:r>
            <a:r>
              <a:rPr b="0" lang="en-US" sz="2800" spc="-1" strike="noStrike">
                <a:solidFill>
                  <a:srgbClr val="008000"/>
                </a:solidFill>
                <a:latin typeface="Times New Roman"/>
              </a:rPr>
              <a:t>10</a:t>
            </a:r>
            <a:r>
              <a:rPr b="0" lang="en-US" sz="2800" spc="-1" strike="noStrike" baseline="30000">
                <a:solidFill>
                  <a:srgbClr val="008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Times New Roman"/>
              </a:rPr>
              <a:t>QCD (p</a:t>
            </a:r>
            <a:r>
              <a:rPr b="0" lang="en-US" sz="2800" spc="-1" strike="noStrike" baseline="-25000">
                <a:solidFill>
                  <a:srgbClr val="008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8000"/>
                </a:solidFill>
                <a:latin typeface="Times New Roman"/>
              </a:rPr>
              <a:t>&gt;100 GeV</a:t>
            </a:r>
            <a:r>
              <a:rPr b="0" lang="en-US" sz="2800" spc="-1" strike="noStrike">
                <a:solidFill>
                  <a:srgbClr val="008000"/>
                </a:solidFill>
                <a:latin typeface="Times New Roman"/>
              </a:rPr>
              <a:t>):</a:t>
            </a:r>
            <a:r>
              <a:rPr b="0" lang="en-US" sz="2800" spc="-1" strike="noStrike">
                <a:solidFill>
                  <a:srgbClr val="008000"/>
                </a:solidFill>
                <a:latin typeface="Times New Roman"/>
              </a:rPr>
              <a:t>  3 </a:t>
            </a:r>
            <a:r>
              <a:rPr b="0" lang="en-US" sz="2800" spc="-1" strike="noStrike">
                <a:solidFill>
                  <a:srgbClr val="008000"/>
                </a:solidFill>
                <a:latin typeface="Symbol"/>
                <a:ea typeface="Symbol"/>
              </a:rPr>
              <a:t></a:t>
            </a:r>
            <a:r>
              <a:rPr b="0" lang="en-US" sz="2800" spc="-1" strike="noStrike">
                <a:solidFill>
                  <a:srgbClr val="008000"/>
                </a:solidFill>
                <a:latin typeface="Times New Roman"/>
              </a:rPr>
              <a:t>10</a:t>
            </a:r>
            <a:r>
              <a:rPr b="0" lang="en-US" sz="2800" spc="-1" strike="noStrike" baseline="30000">
                <a:solidFill>
                  <a:srgbClr val="008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Times New Roman"/>
              </a:rPr>
              <a:t>QCD (p</a:t>
            </a:r>
            <a:r>
              <a:rPr b="0" lang="en-US" sz="2800" spc="-1" strike="noStrike" baseline="-25000">
                <a:solidFill>
                  <a:srgbClr val="008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8000"/>
                </a:solidFill>
                <a:latin typeface="Times New Roman"/>
              </a:rPr>
              <a:t>&gt;200 GeV</a:t>
            </a:r>
            <a:r>
              <a:rPr b="0" lang="en-US" sz="2800" spc="-1" strike="noStrike">
                <a:solidFill>
                  <a:srgbClr val="008000"/>
                </a:solidFill>
                <a:latin typeface="Times New Roman"/>
              </a:rPr>
              <a:t>):</a:t>
            </a:r>
            <a:r>
              <a:rPr b="0" lang="en-US" sz="2800" spc="-1" strike="noStrike">
                <a:solidFill>
                  <a:srgbClr val="008000"/>
                </a:solidFill>
                <a:latin typeface="Times New Roman"/>
              </a:rPr>
              <a:t> 10</a:t>
            </a:r>
            <a:r>
              <a:rPr b="0" lang="en-US" sz="2800" spc="-1" strike="noStrike" baseline="30000">
                <a:solidFill>
                  <a:srgbClr val="008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505320" y="2819520"/>
            <a:ext cx="685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5486040" y="2819520"/>
            <a:ext cx="685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7108E-1D32-4FBA-8020-F1D3F5E1A12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Analisi A </a:t>
            </a:r>
            <a:r>
              <a:rPr b="0" lang="en-US" sz="4000" spc="-1" strike="noStrike">
                <a:solidFill>
                  <a:srgbClr val="ff3300"/>
                </a:solidFill>
                <a:latin typeface="Symbol"/>
                <a:ea typeface="Symbol"/>
              </a:rPr>
              <a:t>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3300"/>
                </a:solidFill>
                <a:latin typeface="Symbol"/>
                <a:ea typeface="Symbol"/>
              </a:rPr>
              <a:t>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37720" y="685440"/>
            <a:ext cx="76201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85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lezion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jets riconosciuti: contrasta (nel nostro caso elimina) i fondi QCD e W+j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ssun elettrone o muone con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10 GeV (solo eventi adronici nel segnal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n p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ù di 4 jets con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20 GeV e |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| &lt; 3.2 (per contrastare il fondo t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meno 1 j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-tagge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segnale bb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ergia mancante 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mis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65 GeV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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 i candidati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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145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 &lt;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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 172° (per contrastare i fondi QCD e Z+je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ssa trasversa m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T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 50 GeV (per contrastare i fondi W+je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ssa ricostruita del bosone A secon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 m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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lt; m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lt; m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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2819520" y="4419720"/>
                <a:ext cx="3809880" cy="45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  <m:sup>
                            <m:r>
                              <m:t xml:space="preserve">τ</m:t>
                            </m:r>
                          </m:sup>
                        </m:sSubSup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miss</m:t>
                            </m:r>
                          </m:sup>
                        </m:sSubSup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Δϕ</m:t>
                        </m:r>
                        <m:r>
                          <m:t xml:space="preserve">(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miss</m:t>
                            </m:r>
                          </m:sup>
                        </m:sSubSup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2819520" y="5105520"/>
                <a:ext cx="4665600" cy="48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τ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ν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τ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ν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ττ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4800600" y="5638680"/>
            <a:ext cx="4343400" cy="7462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4800600" y="5638680"/>
            <a:ext cx="4343400" cy="762120"/>
          </a:xfrm>
          <a:prstGeom prst="rect">
            <a:avLst/>
          </a:prstGeom>
          <a:noFill/>
          <a:ln w="22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9AFF4-7796-4514-AC6B-09813A0D1F1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Variabili notevoli 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(segnal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mTcut6A_old" descr=""/>
          <p:cNvPicPr/>
          <p:nvPr/>
        </p:nvPicPr>
        <p:blipFill>
          <a:blip r:embed="rId2"/>
          <a:stretch/>
        </p:blipFill>
        <p:spPr>
          <a:xfrm>
            <a:off x="228600" y="3352680"/>
            <a:ext cx="3902040" cy="2811600"/>
          </a:xfrm>
          <a:prstGeom prst="rect">
            <a:avLst/>
          </a:prstGeom>
          <a:ln w="0">
            <a:noFill/>
          </a:ln>
        </p:spPr>
      </p:pic>
      <p:pic>
        <p:nvPicPr>
          <p:cNvPr id="166" name="mA_172bars" descr=""/>
          <p:cNvPicPr/>
          <p:nvPr/>
        </p:nvPicPr>
        <p:blipFill>
          <a:blip r:embed="rId3"/>
          <a:stretch/>
        </p:blipFill>
        <p:spPr>
          <a:xfrm>
            <a:off x="4572000" y="3352680"/>
            <a:ext cx="4038480" cy="2783160"/>
          </a:xfrm>
          <a:prstGeom prst="rect">
            <a:avLst/>
          </a:prstGeom>
          <a:ln w="0">
            <a:noFill/>
          </a:ln>
        </p:spPr>
      </p:pic>
      <p:pic>
        <p:nvPicPr>
          <p:cNvPr id="167" name="deltaficut5" descr=""/>
          <p:cNvPicPr/>
          <p:nvPr/>
        </p:nvPicPr>
        <p:blipFill>
          <a:blip r:embed="rId4"/>
          <a:stretch/>
        </p:blipFill>
        <p:spPr>
          <a:xfrm>
            <a:off x="4419720" y="838080"/>
            <a:ext cx="3504960" cy="2502000"/>
          </a:xfrm>
          <a:prstGeom prst="rect">
            <a:avLst/>
          </a:prstGeom>
          <a:ln w="0">
            <a:noFill/>
          </a:ln>
        </p:spPr>
      </p:pic>
      <p:pic>
        <p:nvPicPr>
          <p:cNvPr id="168" name="etmcut4" descr=""/>
          <p:cNvPicPr/>
          <p:nvPr/>
        </p:nvPicPr>
        <p:blipFill>
          <a:blip r:embed="rId5"/>
          <a:stretch/>
        </p:blipFill>
        <p:spPr>
          <a:xfrm>
            <a:off x="914400" y="838080"/>
            <a:ext cx="3505320" cy="249732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2971800" y="1676520"/>
            <a:ext cx="38088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181480" y="1295280"/>
            <a:ext cx="38124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438280" y="3886200"/>
            <a:ext cx="6858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543800" y="4572000"/>
            <a:ext cx="45720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E9569-6095-4D5C-ABE2-B88F9C4982F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Risultat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1981080" y="990720"/>
            <a:ext cx="4872240" cy="254304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297800" y="3661200"/>
            <a:ext cx="1821960" cy="39888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fficienza 0.5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3276720" y="342864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399720" y="3661200"/>
            <a:ext cx="2599200" cy="398880"/>
          </a:xfrm>
          <a:prstGeom prst="rect">
            <a:avLst/>
          </a:prstGeom>
          <a:solidFill>
            <a:srgbClr val="ff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ssun evento di fon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 flipV="1">
            <a:off x="6171840" y="34286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990720" y="4191120"/>
            <a:ext cx="7927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tistica insufficiente per trarre delle conclusioni (nonostante lo sforzo di calcolo), a causa della sezione d’urto dei fondi rispetto al segnal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sultati promettent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1FAC8-803D-4204-B2B0-F6ADB016E480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Conclusion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l lavoro di implementazione nell’ambito del software offline di ATLAS ha portato alla creazione di u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i vertice (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Vertexin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lle buone prestazion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 strumento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è stato utilizzato per realizzare un algoritmo di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identificazione di </a:t>
            </a:r>
            <a:r>
              <a:rPr b="0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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3-prong che ha portato un contributo (aggiuntivo rispetto all’identificazione 1-prong già esistente) di ~10% in efficienz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l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canale A</a:t>
            </a:r>
            <a:r>
              <a:rPr b="0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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m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800 GeV 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n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40) è stato studiato sulla base di precedenti lavori, implementando l’identificazione dei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      Un’elevata quantità di dati simulati è stata prodott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risultat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sia pur non conclusivi a causa della statistica insufficiente, sono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promettent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91BD8-62E6-4DE5-A406-A85E786493C9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LH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H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arge Hadron Colli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ualmente in costruzione al CERN e previsto operativo per l’anno 2007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llider protone-protone a 14 TeV di energia nominale nel centro di mass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uminos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à prevista: 2·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4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sci strutturati in bunches che collido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 la frequenza di 40 MHz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gneti superconduttori da oltre 8 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mensione trasversa del fascio: 2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lhc_csection" descr=""/>
          <p:cNvPicPr/>
          <p:nvPr/>
        </p:nvPicPr>
        <p:blipFill>
          <a:blip r:embed="rId2"/>
          <a:stretch/>
        </p:blipFill>
        <p:spPr>
          <a:xfrm>
            <a:off x="6095880" y="3886200"/>
            <a:ext cx="2855880" cy="2371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4BD89-8E34-4113-B253-F06B3D47000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LH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-360" y="1981080"/>
            <a:ext cx="396252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ALI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oni pesan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ATLA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 </a:t>
            </a: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CM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ggs e supersimmetria (principalment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LHC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sica del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TOTE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zione d’urto totale ed elast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LHCU" descr=""/>
          <p:cNvPicPr/>
          <p:nvPr/>
        </p:nvPicPr>
        <p:blipFill>
          <a:blip r:embed="rId2"/>
          <a:stretch/>
        </p:blipFill>
        <p:spPr>
          <a:xfrm>
            <a:off x="3886200" y="1981080"/>
            <a:ext cx="5257800" cy="377676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2510280" y="1143000"/>
            <a:ext cx="28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5 esperimenti previs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D0DC8-78F9-4876-8C6C-A2F70950452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L’esperimento ATLAS ad LH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atlas" descr=""/>
          <p:cNvPicPr/>
          <p:nvPr/>
        </p:nvPicPr>
        <p:blipFill>
          <a:blip r:embed="rId2"/>
          <a:stretch/>
        </p:blipFill>
        <p:spPr>
          <a:xfrm>
            <a:off x="1143000" y="1219320"/>
            <a:ext cx="6553080" cy="5064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E2C5B-77FB-4A93-9397-DFE04052EA1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L’Inner Detecto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90720" y="990720"/>
            <a:ext cx="6705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’I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è indispensabile per un efficace tracciamento e per ottimizzare la misura del momento delle particelle e della risoluzione dei vertici primari e secondar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’ID è costituito da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xel Detect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da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licon Track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 da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ition Radiation Track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Inner2" descr=""/>
          <p:cNvPicPr/>
          <p:nvPr/>
        </p:nvPicPr>
        <p:blipFill>
          <a:blip r:embed="rId2"/>
          <a:stretch/>
        </p:blipFill>
        <p:spPr>
          <a:xfrm>
            <a:off x="2057400" y="3276720"/>
            <a:ext cx="5410080" cy="3000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20E99-0A85-4667-918C-4621A84E426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Il Pixel Detecto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90720" y="914040"/>
            <a:ext cx="670536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nisce un’elevata granular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à in prossimità del vertice di interazione: circa 1700 moduli da 320x144 pixels (50x400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forniscono una risoluzione spaziale di 13 e 65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 nelle due direzioni ortogonal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xel3d2" descr=""/>
          <p:cNvPicPr/>
          <p:nvPr/>
        </p:nvPicPr>
        <p:blipFill>
          <a:blip r:embed="rId2"/>
          <a:stretch/>
        </p:blipFill>
        <p:spPr>
          <a:xfrm>
            <a:off x="4876920" y="2484360"/>
            <a:ext cx="3809880" cy="36576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609480" y="4495680"/>
            <a:ext cx="2971800" cy="990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a: la configurazione iniziale prevede 2 dischi e 2 cilind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1A197-4764-435E-83CF-36ACFE7DF5D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Il software di ATL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l software di ATLA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è organizzato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ag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gestiti da CVS e scritti in linguaggio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 Oriente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+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i algoritmi sono creati in modo da essere eseguiti nell’ambito di u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ramewor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viluppato dalla collaborazione: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then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FD53D-C444-41FD-A2F4-3F740DC164C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Il </a:t>
            </a:r>
            <a:r>
              <a:rPr b="0" i="1" lang="en-US" sz="4400" spc="-1" strike="noStrike">
                <a:solidFill>
                  <a:srgbClr val="ff3300"/>
                </a:solidFill>
                <a:latin typeface="Times New Roman"/>
              </a:rPr>
              <a:t>package</a:t>
            </a: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 Vert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ll’ambito del lavoro di tesi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è stato sviluppato u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ag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er la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ricostruzione dei vertici primari e secondar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he è stato inserito nel software ufficiale per la ricostruzione degli eventi in ATL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i algoritmi ricevono in ingresso le tracce ricostruite e forniscono in uscita la posizione dei vertici ricostruiti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fornisce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un’interfaccia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Object Oriente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er il fit di vertici, che viene eseguito da un programma di libreria scritto (in Fortran) dalla collaborazione CDF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 implementazione original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è invece l’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iterazion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 la quale possono venire eliminate le tracce che forniscono il  contributo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di </a:t>
            </a:r>
            <a:r>
              <a:rPr b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</a:t>
            </a:r>
            <a:r>
              <a:rPr b="1" lang="en-US" sz="2000" spc="-1" strike="noStrike" baseline="30000">
                <a:solidFill>
                  <a:srgbClr val="3333cc"/>
                </a:solidFill>
                <a:latin typeface="Times New Roman"/>
                <a:ea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aggiore al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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e del vertic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6319D-027C-49C7-BA48-91DFF4E7108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2T10:55:12Z</dcterms:created>
  <dc:creator>Fabrizio Ferro</dc:creator>
  <dc:description/>
  <dc:language>en-US</dc:language>
  <cp:lastModifiedBy>Fabrizio Ferro</cp:lastModifiedBy>
  <dcterms:modified xsi:type="dcterms:W3CDTF">2003-02-12T16:23:23Z</dcterms:modified>
  <cp:revision>41</cp:revision>
  <dc:subject/>
  <dc:title>Università degli Studi di Genova</dc:title>
</cp:coreProperties>
</file>